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C3F-7582-4442-9D7D-FE4FBC60E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161-083B-4AC7-8CB8-A8B97B04C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353-1932-43ED-94B2-D5257EC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66E-3063-42DF-8C3B-8D735C79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18C-940B-4265-A9BF-0EF933B1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174-7676-4D1C-98A4-02221129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87C-B851-4D3D-B8E2-F913BC0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57A-02F8-41DF-A206-DD86A5D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666-0DC1-4009-A90E-BCF2E1B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988-1C66-4A1B-8CF2-F9FE1E3C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C73-BA54-4401-BA5D-BD0B282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E1B-6A8B-424E-8F17-A7715163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273-3DD9-4F85-B6CC-AF0C9CC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1E2-244A-4BE7-A9DC-EC3574F8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38F-9F77-4E62-96F3-10D4E1F48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iterature Web - Full 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066680" y="1295280"/>
            <a:ext cx="7239240" cy="4800600"/>
            <a:chOff x="1066680" y="1295280"/>
            <a:chExt cx="7239240" cy="4800600"/>
          </a:xfrm>
        </p:grpSpPr>
        <p:sp>
          <p:nvSpPr>
            <p:cNvPr id="50" name="Oval 4"/>
            <p:cNvSpPr/>
            <p:nvPr/>
          </p:nvSpPr>
          <p:spPr>
            <a:xfrm>
              <a:off x="4191120" y="2743200"/>
              <a:ext cx="1295280" cy="106668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1066680" y="1295280"/>
              <a:ext cx="2057400" cy="1600200"/>
              <a:chOff x="1066680" y="1295280"/>
              <a:chExt cx="2057400" cy="1600200"/>
            </a:xfrm>
          </p:grpSpPr>
          <p:sp>
            <p:nvSpPr>
              <p:cNvPr id="52" name="Oval 6"/>
              <p:cNvSpPr/>
              <p:nvPr/>
            </p:nvSpPr>
            <p:spPr>
              <a:xfrm>
                <a:off x="1066680" y="12952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7"/>
              <p:cNvSpPr/>
              <p:nvPr/>
            </p:nvSpPr>
            <p:spPr>
              <a:xfrm>
                <a:off x="1469160" y="1549080"/>
                <a:ext cx="119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Key Wor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 Box 8"/>
            <p:cNvSpPr/>
            <p:nvPr/>
          </p:nvSpPr>
          <p:spPr>
            <a:xfrm>
              <a:off x="4280400" y="312588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ydian BT"/>
                </a:rPr>
                <a:t>R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4800600" y="380988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V="1">
              <a:off x="5486400" y="2286000"/>
              <a:ext cx="744480" cy="83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 flipH="1" flipV="1">
              <a:off x="3047760" y="2437920"/>
              <a:ext cx="1143000" cy="762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2"/>
            <p:cNvGrpSpPr/>
            <p:nvPr/>
          </p:nvGrpSpPr>
          <p:grpSpPr>
            <a:xfrm>
              <a:off x="6248520" y="1371600"/>
              <a:ext cx="2057400" cy="1600200"/>
              <a:chOff x="6248520" y="1371600"/>
              <a:chExt cx="2057400" cy="1600200"/>
            </a:xfrm>
          </p:grpSpPr>
          <p:sp>
            <p:nvSpPr>
              <p:cNvPr id="59" name="Oval 13"/>
              <p:cNvSpPr/>
              <p:nvPr/>
            </p:nvSpPr>
            <p:spPr>
              <a:xfrm>
                <a:off x="6248520" y="137160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4"/>
              <p:cNvSpPr/>
              <p:nvPr/>
            </p:nvSpPr>
            <p:spPr>
              <a:xfrm>
                <a:off x="6766200" y="1625400"/>
                <a:ext cx="965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Feeling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Line 15"/>
            <p:cNvSpPr/>
            <p:nvPr/>
          </p:nvSpPr>
          <p:spPr>
            <a:xfrm flipV="1">
              <a:off x="2971800" y="3335040"/>
              <a:ext cx="1219320" cy="7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86400" y="3429000"/>
              <a:ext cx="91440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7"/>
            <p:cNvGrpSpPr/>
            <p:nvPr/>
          </p:nvGrpSpPr>
          <p:grpSpPr>
            <a:xfrm>
              <a:off x="1143000" y="3809880"/>
              <a:ext cx="2057400" cy="1600200"/>
              <a:chOff x="1143000" y="3809880"/>
              <a:chExt cx="2057400" cy="1600200"/>
            </a:xfrm>
          </p:grpSpPr>
          <p:sp>
            <p:nvSpPr>
              <p:cNvPr id="64" name="Oval 18"/>
              <p:cNvSpPr/>
              <p:nvPr/>
            </p:nvSpPr>
            <p:spPr>
              <a:xfrm>
                <a:off x="1143000" y="38098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9"/>
              <p:cNvSpPr/>
              <p:nvPr/>
            </p:nvSpPr>
            <p:spPr>
              <a:xfrm>
                <a:off x="1795320" y="4063680"/>
                <a:ext cx="70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Ide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0"/>
            <p:cNvGrpSpPr/>
            <p:nvPr/>
          </p:nvGrpSpPr>
          <p:grpSpPr>
            <a:xfrm>
              <a:off x="3733920" y="4495680"/>
              <a:ext cx="2057400" cy="1600200"/>
              <a:chOff x="3733920" y="4495680"/>
              <a:chExt cx="2057400" cy="1600200"/>
            </a:xfrm>
          </p:grpSpPr>
          <p:sp>
            <p:nvSpPr>
              <p:cNvPr id="67" name="Oval 21"/>
              <p:cNvSpPr/>
              <p:nvPr/>
            </p:nvSpPr>
            <p:spPr>
              <a:xfrm>
                <a:off x="3733920" y="449568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22"/>
              <p:cNvSpPr/>
              <p:nvPr/>
            </p:nvSpPr>
            <p:spPr>
              <a:xfrm>
                <a:off x="4203360" y="4749480"/>
                <a:ext cx="106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Struct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6248520" y="3657600"/>
              <a:ext cx="2057400" cy="1600200"/>
              <a:chOff x="6248520" y="3657600"/>
              <a:chExt cx="2057400" cy="1600200"/>
            </a:xfrm>
          </p:grpSpPr>
          <p:sp>
            <p:nvSpPr>
              <p:cNvPr id="70" name="Oval 24"/>
              <p:cNvSpPr/>
              <p:nvPr/>
            </p:nvSpPr>
            <p:spPr>
              <a:xfrm>
                <a:off x="6248520" y="3657600"/>
                <a:ext cx="2057400" cy="160020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5"/>
              <p:cNvSpPr/>
              <p:nvPr/>
            </p:nvSpPr>
            <p:spPr>
              <a:xfrm>
                <a:off x="6369120" y="3911400"/>
                <a:ext cx="176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ydian BT"/>
                  </a:rPr>
                  <a:t>Images/Symbo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36:32Z</dcterms:modified>
  <cp:revision>3</cp:revision>
  <dc:subject/>
  <dc:title>Literature Web - Full Form</dc:title>
</cp:coreProperties>
</file>